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693-964E-42BB-A90D-EC8420CA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DE4-D71A-40C8-8835-009E4FE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AF5-0FD6-413F-B7D5-7466070E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441-37AD-4811-8C68-18637414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FC6D-2E97-4251-B5C9-46ADF3E3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3734-C328-46E4-891F-5CC0CBD9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209E-3F23-4831-BF0E-972C5EE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2203-211F-4DDC-811A-C0566E2C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5CAE-7C39-495D-985E-04B95D43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D765-ABF5-4A96-8549-135F674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4252-C7D4-439C-8827-1717F4C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5D2-B648-4FE4-8D46-EF9A152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A3B5-D48F-4637-ABC8-69DDF9E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FCC8-B84B-4612-8598-F649DF7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A262-2259-475E-BD62-E6A976E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7605-169D-4108-98CD-4556DC72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1801-7B2F-430C-9E84-34E9ACE1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A41-D185-46C0-8632-302C51F3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697-AA62-465D-823E-0FDDC26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55C-173D-4416-B3E2-94C7F59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1F1-A005-4C1E-8248-4A9E14AD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950-C90A-424B-8498-298F757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9A7-FD66-4839-832B-8816E47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3D6-3D4E-4004-8364-C28ACD6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F61F-256C-4563-98BB-934CD10F1F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204B-C230-4C72-84A1-C6AB5E6A1F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ps.cs.odu.ed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einonline.org/OAI-script" TargetMode="External"/><Relationship Id="rId2" Type="http://schemas.openxmlformats.org/officeDocument/2006/relationships/hyperlink" Target="http://heinonline.org/OAI-script" TargetMode="External"/><Relationship Id="rId3" Type="http://schemas.openxmlformats.org/officeDocument/2006/relationships/hyperlink" Target="http://heinonline.org/OAI-scri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Arc – Federated Searching Ser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urt Maly, Xiaoming Liu, M.Zubair, Michael L.Nels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ld Dominion Univers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anuary 23, 20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oa100" descr=""/>
          <p:cNvPicPr/>
          <p:nvPr/>
        </p:nvPicPr>
        <p:blipFill>
          <a:blip r:embed="rId1"/>
          <a:stretch/>
        </p:blipFill>
        <p:spPr>
          <a:xfrm>
            <a:off x="6400800" y="609480"/>
            <a:ext cx="1143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3/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adata indexed with Oracle’s context cartridge ser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 information maintained in local cach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performance reasons; result sets can be large and are manipulated in cache rather than from the RDB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re info about architecture: ECDL 2000, Maly et al., pp. 168-17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sons Learned (1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lity of data provi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expense of maintaining a quality federation service  is highly dependant on quality of data prov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rolled vocabul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unified controlled vocabulary, or at least defining mapping relationship, is important in a cross archive serv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sons Learned (2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ML syntax and character enco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ingle error could influence large set of dat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haracter encoding error occurs frequently in most  data provid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vest sched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use historical harvest + daily based incremental harves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rade-off between data freshness and harvest efficienc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authority file for author, organization, format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p different subject classification system to a canonical on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full bucket suppor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service, customized collections, change the nature of the collection based on usage ... and other value added service if pos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anks for the help from OAI alpha group and data provide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anks for the help from ODU DL Group (http://dlib.cs.odu.edu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derated searching ser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arc.cs.odu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icipant of OAI alpha t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s.odu.edu/~dlibug/alph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versal Preprint Servi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ups.cs.odu.edu/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itial demonstration vehicle for OAI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d on NCSTRL+ which is an extension of NCSTR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cke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arch engine developed at ODU based on Oracle databa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ce (1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ple sear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freetext across archiv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pport boolean operator (and/o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vanced sear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across archives, or in specific archive and its subs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free text i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author/title/abstra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ield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lter search/browse by archive/set/subject/type/language/datestamp/discovery d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led vocabulary extracted from archiv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ce (2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sort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y datestamp,archive,relevant rank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displa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 list – NCSTRL+ like interfa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lay single document in deta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ghtweight buck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to data sour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llections being harves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47920"/>
            <a:ext cx="60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harvested from OAI1.0 complian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181480"/>
            <a:ext cx="60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harvested from old SF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C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CSTR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2133720"/>
            <a:ext cx="6553080" cy="2743200"/>
            <a:chOff x="838080" y="2133720"/>
            <a:chExt cx="6553080" cy="2743200"/>
          </a:xfrm>
        </p:grpSpPr>
        <p:grpSp>
          <p:nvGrpSpPr>
            <p:cNvPr id="223" name=""/>
            <p:cNvGrpSpPr/>
            <p:nvPr/>
          </p:nvGrpSpPr>
          <p:grpSpPr>
            <a:xfrm>
              <a:off x="846000" y="2136240"/>
              <a:ext cx="6535800" cy="2737800"/>
              <a:chOff x="846000" y="2136240"/>
              <a:chExt cx="6535800" cy="2737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846000" y="2136240"/>
                <a:ext cx="1267920" cy="496080"/>
                <a:chOff x="846000" y="2136240"/>
                <a:chExt cx="1267920" cy="496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46000" y="213624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Identifier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6000" y="213624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114280" y="2136240"/>
                <a:ext cx="5267520" cy="496080"/>
                <a:chOff x="2114280" y="2136240"/>
                <a:chExt cx="5267520" cy="4960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114280" y="213624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Full name of the archive 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114280" y="213624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46000" y="2632320"/>
                <a:ext cx="1267920" cy="376560"/>
                <a:chOff x="846000" y="2632320"/>
                <a:chExt cx="1267920" cy="376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46000" y="2632320"/>
                  <a:ext cx="1267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arXiv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46000" y="2632320"/>
                  <a:ext cx="12679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114280" y="2632320"/>
                <a:ext cx="5267520" cy="376560"/>
                <a:chOff x="2114280" y="2632320"/>
                <a:chExt cx="5267520" cy="376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14280" y="2632320"/>
                  <a:ext cx="52675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arXiv e-print archive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114280" y="2632320"/>
                  <a:ext cx="52675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46000" y="3008880"/>
                <a:ext cx="1267920" cy="496080"/>
                <a:chOff x="846000" y="3008880"/>
                <a:chExt cx="1267920" cy="496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46000" y="300888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CogPrint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46000" y="300888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114280" y="3008880"/>
                <a:ext cx="5267520" cy="496080"/>
                <a:chOff x="2114280" y="3008880"/>
                <a:chExt cx="5267520" cy="4960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14280" y="300888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CogPrint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114280" y="300888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46000" y="3505320"/>
                <a:ext cx="1267920" cy="495720"/>
                <a:chOff x="846000" y="3505320"/>
                <a:chExt cx="1267920" cy="495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46000" y="3505320"/>
                  <a:ext cx="12679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ACA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6000" y="3505320"/>
                  <a:ext cx="12679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114280" y="3505320"/>
                <a:ext cx="5267520" cy="495720"/>
                <a:chOff x="2114280" y="3505320"/>
                <a:chExt cx="5267520" cy="495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114280" y="3505320"/>
                  <a:ext cx="52675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ational Advisory Committee for Aeronautic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14280" y="3505320"/>
                  <a:ext cx="52675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846000" y="4001040"/>
                <a:ext cx="1267920" cy="496080"/>
                <a:chOff x="846000" y="4001040"/>
                <a:chExt cx="1267920" cy="4960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46000" y="400104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DLTD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46000" y="400104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114280" y="4001040"/>
                <a:ext cx="5267520" cy="496080"/>
                <a:chOff x="2114280" y="4001040"/>
                <a:chExt cx="5267520" cy="496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114280" y="400104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Virginia Tech Thesis/Dissertation Colle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114280" y="400104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46000" y="4497480"/>
                <a:ext cx="1267920" cy="376560"/>
                <a:chOff x="846000" y="4497480"/>
                <a:chExt cx="1267920" cy="3765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46000" y="4497480"/>
                  <a:ext cx="1267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LTR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46000" y="4497480"/>
                  <a:ext cx="12679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114280" y="4497480"/>
                <a:ext cx="5267520" cy="376560"/>
                <a:chOff x="2114280" y="4497480"/>
                <a:chExt cx="5267520" cy="376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114280" y="4497480"/>
                  <a:ext cx="52675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Langley Tehcnical Report Server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4280" y="4497480"/>
                  <a:ext cx="52675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838080" y="2133720"/>
              <a:ext cx="655308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Harvesting - For Alpha Test Onl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3240" y="5156280"/>
            <a:ext cx="9144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" y="-7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" y="63277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" y="123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" y="-463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" y="-5540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" y="674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" y="31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" y="-74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080" y="1752480"/>
            <a:ext cx="7086240" cy="4591080"/>
            <a:chOff x="838080" y="1752480"/>
            <a:chExt cx="7086240" cy="4591080"/>
          </a:xfrm>
        </p:grpSpPr>
        <p:grpSp>
          <p:nvGrpSpPr>
            <p:cNvPr id="272" name=""/>
            <p:cNvGrpSpPr/>
            <p:nvPr/>
          </p:nvGrpSpPr>
          <p:grpSpPr>
            <a:xfrm>
              <a:off x="843480" y="1756080"/>
              <a:ext cx="7074720" cy="4582440"/>
              <a:chOff x="843480" y="1756080"/>
              <a:chExt cx="7074720" cy="45824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480" y="1756080"/>
                <a:ext cx="1534680" cy="550800"/>
                <a:chOff x="843480" y="1756080"/>
                <a:chExt cx="1534680" cy="550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843480" y="175608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Identifier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480" y="175608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378520" y="1756080"/>
                <a:ext cx="1468080" cy="550800"/>
                <a:chOff x="2378520" y="1756080"/>
                <a:chExt cx="1468080" cy="5508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378520" y="175608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Organiza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378520" y="175608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46960" y="1756080"/>
                <a:ext cx="4071240" cy="550800"/>
                <a:chOff x="3846960" y="1756080"/>
                <a:chExt cx="4071240" cy="550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846960" y="175608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arvest UR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46960" y="175608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843480" y="2306880"/>
                <a:ext cx="1534680" cy="550800"/>
                <a:chOff x="843480" y="2306880"/>
                <a:chExt cx="1534680" cy="5508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43480" y="230688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einOnline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3480" y="230688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78520" y="2306880"/>
                <a:ext cx="1468080" cy="550800"/>
                <a:chOff x="2378520" y="2306880"/>
                <a:chExt cx="1468080" cy="550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378520" y="230688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Cornel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78520" y="230688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846960" y="2306880"/>
                <a:ext cx="4071240" cy="550800"/>
                <a:chOff x="3846960" y="2306880"/>
                <a:chExt cx="4071240" cy="550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46960" y="230688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1"/>
                    </a:rPr>
                    <a:t>http://</a:t>
                  </a: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2"/>
                    </a:rPr>
                    <a:t>heinonline</a:t>
                  </a: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3"/>
                    </a:rPr>
                    <a:t>.org/OAI-script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46960" y="230688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843480" y="2858040"/>
                <a:ext cx="1534680" cy="550800"/>
                <a:chOff x="843480" y="2858040"/>
                <a:chExt cx="1534680" cy="5508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843480" y="285804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NSDL-CU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3480" y="285804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78520" y="2858040"/>
                <a:ext cx="1468080" cy="550800"/>
                <a:chOff x="2378520" y="2858040"/>
                <a:chExt cx="1468080" cy="5508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378520" y="285804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Cornel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78520" y="285804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846960" y="2858040"/>
                <a:ext cx="4071240" cy="550800"/>
                <a:chOff x="3846960" y="2858040"/>
                <a:chExt cx="4071240" cy="550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846960" y="285804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heinonline.org/OAI-NSD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846960" y="285804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843480" y="3408840"/>
                <a:ext cx="1534680" cy="550800"/>
                <a:chOff x="843480" y="3408840"/>
                <a:chExt cx="1534680" cy="550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43480" y="340884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d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43480" y="340884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78520" y="3408840"/>
                <a:ext cx="1468080" cy="550800"/>
                <a:chOff x="2378520" y="3408840"/>
                <a:chExt cx="1468080" cy="550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378520" y="340884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Pen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78520" y="340884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846960" y="3408840"/>
                <a:ext cx="4071240" cy="550800"/>
                <a:chOff x="3846960" y="3408840"/>
                <a:chExt cx="4071240" cy="550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846960" y="340884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www.ldc.upenn.edu:85/oai/ldc/test.php3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46960" y="340884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480" y="3960000"/>
                <a:ext cx="1534680" cy="550800"/>
                <a:chOff x="843480" y="3960000"/>
                <a:chExt cx="1534680" cy="550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43480" y="396000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elra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480" y="396000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78520" y="3960000"/>
                <a:ext cx="1468080" cy="550800"/>
                <a:chOff x="2378520" y="3960000"/>
                <a:chExt cx="1468080" cy="550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378520" y="396000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Pen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78520" y="396000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846960" y="3960000"/>
                <a:ext cx="4071240" cy="550800"/>
                <a:chOff x="3846960" y="3960000"/>
                <a:chExt cx="4071240" cy="550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846960" y="396000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www.ldc.upenn.edu:85/oai/elra/elra.php3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46960" y="396000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843480" y="4511160"/>
                <a:ext cx="1534680" cy="550800"/>
                <a:chOff x="843480" y="4511160"/>
                <a:chExt cx="1534680" cy="550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843480" y="451116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coa1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43480" y="451116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78520" y="4511160"/>
                <a:ext cx="1468080" cy="550800"/>
                <a:chOff x="2378520" y="4511160"/>
                <a:chExt cx="1468080" cy="550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378520" y="451116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O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78520" y="451116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846960" y="4511160"/>
                <a:ext cx="4071240" cy="550800"/>
                <a:chOff x="3846960" y="4511160"/>
                <a:chExt cx="4071240" cy="550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846960" y="451116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lcweb2.loc.gov/cgi-bin/oai0_9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846960" y="451116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43480" y="5061960"/>
                <a:ext cx="1534680" cy="550800"/>
                <a:chOff x="843480" y="5061960"/>
                <a:chExt cx="1534680" cy="550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843480" y="506196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tk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43480" y="506196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78520" y="5061960"/>
                <a:ext cx="1468080" cy="550800"/>
                <a:chOff x="2378520" y="5061960"/>
                <a:chExt cx="1468080" cy="550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378520" y="506196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TK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78520" y="506196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846960" y="5061960"/>
                <a:ext cx="4071240" cy="550800"/>
                <a:chOff x="3846960" y="5061960"/>
                <a:chExt cx="4071240" cy="5508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846960" y="506196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helios.dii.utk.edu/cgi-bin/oai.cgi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46960" y="506196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43480" y="5613120"/>
                <a:ext cx="1534680" cy="725400"/>
                <a:chOff x="843480" y="5613120"/>
                <a:chExt cx="1534680" cy="72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43480" y="5613120"/>
                  <a:ext cx="153468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idli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43480" y="5613120"/>
                  <a:ext cx="153468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378520" y="5613120"/>
                <a:ext cx="1468080" cy="725400"/>
                <a:chOff x="2378520" y="5613120"/>
                <a:chExt cx="1468080" cy="72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378520" y="5613120"/>
                  <a:ext cx="146808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IU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78520" y="5613120"/>
                  <a:ext cx="146808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846960" y="5613120"/>
                <a:ext cx="4071240" cy="725400"/>
                <a:chOff x="3846960" y="5613120"/>
                <a:chExt cx="4071240" cy="72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846960" y="5613120"/>
                  <a:ext cx="407124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bolder.grainger.uiuc.edu/dlibmeta/oai.asp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46960" y="5613120"/>
                  <a:ext cx="407124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838080" y="1752480"/>
              <a:ext cx="7086240" cy="459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240" y="61117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1/3)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050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9" name="arcstructure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2/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ormaliz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ferent archives have different format/naming conventions for specific metadata field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v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storical Harve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llected archival data published before a fixed ti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sh Harv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 incremental harvester daemon periodically fetches new published metadata from data providers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4:18:30Z</dcterms:created>
  <dc:creator>liu_x</dc:creator>
  <dc:description/>
  <dc:language>en-US</dc:language>
  <cp:lastModifiedBy>Kurt Maly</cp:lastModifiedBy>
  <dcterms:modified xsi:type="dcterms:W3CDTF">2001-01-18T12:59:06Z</dcterms:modified>
  <cp:revision>7</cp:revision>
  <dc:subject/>
  <dc:title>Arc – Federated Searching Service</dc:title>
</cp:coreProperties>
</file>